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urchbell.wav" ContentType="audio/x-wav"/>
  <Override PartName="/ppt/media/image17.png" ContentType="image/png"/>
  <Override PartName="/ppt/media/image9.png" ContentType="image/png"/>
  <Override PartName="/ppt/media/horsewhinney.wav" ContentType="audio/x-wav"/>
  <Override PartName="/ppt/media/image5.png" ContentType="image/png"/>
  <Override PartName="/ppt/media/image7.png" ContentType="image/png"/>
  <Override PartName="/ppt/media/image6.png" ContentType="image/png"/>
  <Override PartName="/ppt/media/bounce.wav" ContentType="audio/x-wav"/>
  <Override PartName="/ppt/media/image16.png" ContentType="image/png"/>
  <Override PartName="/ppt/media/image14.png" ContentType="image/png"/>
  <Override PartName="/ppt/media/image12.gif" ContentType="image/gif"/>
  <Override PartName="/ppt/media/image15.png" ContentType="image/png"/>
  <Override PartName="/ppt/media/image11.png" ContentType="image/png"/>
  <Override PartName="/ppt/media/image10.gif" ContentType="image/gif"/>
  <Override PartName="/ppt/media/image13.png" ContentType="image/png"/>
  <Override PartName="/ppt/media/Kid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E7EF-37C2-40DB-9B26-0C91E973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9EF9-AF7E-4157-9963-171FBA8B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5E90-9F16-4CE3-81B7-CEEF2AB0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6B84-5575-4287-8265-74BCAA42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CE36-9E18-4DFE-84B7-A688BB69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49A9-FB8C-485B-84FE-236AF523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0039-65AE-44B7-B32D-6CCBF1F0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9685-8E54-4D05-A00F-612236F7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0F26-595C-4C32-8F9F-E18629F5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BA6F-9BE5-4166-8CBD-62B848F3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3A87-F464-45B5-89EC-33C71A68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0E85-C330-4254-9B16-D634D137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59D7-08AC-4190-A46F-86FB575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D469-E889-44A9-818C-D047378F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05B3-14C1-454E-8467-1D3310A0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319B-5936-4F8F-AE28-ACA3D888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98FB-D4C6-40AF-ADF4-16EDC269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1798-1EA3-46FF-9D1B-51FEECAB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2233-4B4B-48E3-A996-9891E86D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CD3F-1764-4B7F-9891-8306F93C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7427-4749-4982-9191-CDD64D83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83EA-E61E-4326-9B43-CCC66EF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198A-2F7A-4E1B-8ED9-9C2BDD7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255F-8277-4E63-BDB4-8B09CC9A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3f6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f52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8396b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B683-1D8A-46B9-ACAF-6FF6C39205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3f6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f52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8396b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39A0-04F0-4728-9667-C71E44E326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Kids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slide" Target="slide14.xml"/><Relationship Id="rId7" Type="http://schemas.openxmlformats.org/officeDocument/2006/relationships/image" Target="../media/image15.png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1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7.xml"/><Relationship Id="rId5" Type="http://schemas.openxmlformats.org/officeDocument/2006/relationships/slide" Target=""/><Relationship Id="rId6" Type="http://schemas.openxmlformats.org/officeDocument/2006/relationships/slide" Target="slide17.xml"/><Relationship Id="rId7" Type="http://schemas.openxmlformats.org/officeDocument/2006/relationships/image" Target="../media/image16.png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horsewhinney.wav"/><Relationship Id="rId6" Type="http://schemas.openxmlformats.org/officeDocument/2006/relationships/audio" Target="../media/churchbell.wav"/><Relationship Id="rId7" Type="http://schemas.openxmlformats.org/officeDocument/2006/relationships/audio" Target="../media/bounce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image" Target="../media/image13.png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"/><Relationship Id="rId6" Type="http://schemas.openxmlformats.org/officeDocument/2006/relationships/slide" Target="slide11.xml"/><Relationship Id="rId7" Type="http://schemas.openxmlformats.org/officeDocument/2006/relationships/image" Target="../media/image14.png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Name It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s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shley"/>
          <p:cNvPicPr/>
          <p:nvPr/>
        </p:nvPicPr>
        <p:blipFill>
          <a:blip r:embed="rId1"/>
          <a:stretch/>
        </p:blipFill>
        <p:spPr>
          <a:xfrm>
            <a:off x="6705720" y="304920"/>
            <a:ext cx="2152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arn01"/>
          <p:cNvPicPr/>
          <p:nvPr/>
        </p:nvPicPr>
        <p:blipFill>
          <a:blip r:embed="rId2"/>
          <a:stretch/>
        </p:blipFill>
        <p:spPr>
          <a:xfrm>
            <a:off x="0" y="4114800"/>
            <a:ext cx="4572000" cy="329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bicycle"/>
          <p:cNvPicPr/>
          <p:nvPr/>
        </p:nvPicPr>
        <p:blipFill>
          <a:blip r:embed="rId3"/>
          <a:stretch/>
        </p:blipFill>
        <p:spPr>
          <a:xfrm>
            <a:off x="7010280" y="4724280"/>
            <a:ext cx="2057400" cy="186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lb"/>
          <p:cNvPicPr/>
          <p:nvPr/>
        </p:nvPicPr>
        <p:blipFill>
          <a:blip r:embed="rId4"/>
          <a:stretch/>
        </p:blipFill>
        <p:spPr>
          <a:xfrm>
            <a:off x="457200" y="0"/>
            <a:ext cx="781200" cy="149544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5" name="Kid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leftpoin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My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mom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and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dad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5" action="ppaction://hlinksldjump"/>
              </a:rPr>
              <a:t>helped me with my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6" action="ppaction://hlinksldjump"/>
              </a:rPr>
              <a:t>homework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6" descr="studentparents"/>
          <p:cNvPicPr/>
          <p:nvPr/>
        </p:nvPicPr>
        <p:blipFill>
          <a:blip r:embed="rId7"/>
          <a:stretch/>
        </p:blipFill>
        <p:spPr>
          <a:xfrm>
            <a:off x="4495680" y="3200400"/>
            <a:ext cx="2676600" cy="32479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8">
            <a:hlinkClick r:id="rId8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9">
            <a:hlinkClick r:id="rId9" action="ppaction://hlinksldjump"/>
          </p:cNvPr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leftpoin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doctor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visited 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patient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5" action="ppaction://hlinksldjump"/>
              </a:rPr>
              <a:t>at 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6" action="ppaction://hlinksldjump"/>
              </a:rPr>
              <a:t>hospita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drconsult"/>
          <p:cNvPicPr/>
          <p:nvPr/>
        </p:nvPicPr>
        <p:blipFill>
          <a:blip r:embed="rId7"/>
          <a:stretch/>
        </p:blipFill>
        <p:spPr>
          <a:xfrm>
            <a:off x="3733920" y="3276720"/>
            <a:ext cx="4757760" cy="30528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>
            <a:hlinkClick r:id="rId8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572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9" action="ppaction://hlinksldjump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leftpoint"/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ur team won the big game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5" descr="footballplayr"/>
          <p:cNvPicPr/>
          <p:nvPr/>
        </p:nvPicPr>
        <p:blipFill>
          <a:blip r:embed="rId1"/>
          <a:stretch/>
        </p:blipFill>
        <p:spPr>
          <a:xfrm>
            <a:off x="3429000" y="2895480"/>
            <a:ext cx="2522520" cy="36576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7"/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a noun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un is a person, place, thing, or ide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cowboy4"/>
          <p:cNvPicPr/>
          <p:nvPr/>
        </p:nvPicPr>
        <p:blipFill>
          <a:blip r:embed="rId1"/>
          <a:stretch/>
        </p:blipFill>
        <p:spPr>
          <a:xfrm>
            <a:off x="0" y="2819520"/>
            <a:ext cx="2924280" cy="2676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685800" y="54864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:  cowb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9" descr="church"/>
          <p:cNvPicPr/>
          <p:nvPr/>
        </p:nvPicPr>
        <p:blipFill>
          <a:blip r:embed="rId2"/>
          <a:stretch/>
        </p:blipFill>
        <p:spPr>
          <a:xfrm>
            <a:off x="2895480" y="3048120"/>
            <a:ext cx="1594080" cy="2128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3048120" y="54864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ce:  chu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1" descr="beachball2"/>
          <p:cNvPicPr/>
          <p:nvPr/>
        </p:nvPicPr>
        <p:blipFill>
          <a:blip r:embed="rId3"/>
          <a:stretch/>
        </p:blipFill>
        <p:spPr>
          <a:xfrm>
            <a:off x="4952880" y="34290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4952880" y="548640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g:  beachb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5" descr="justice"/>
          <p:cNvPicPr/>
          <p:nvPr/>
        </p:nvPicPr>
        <p:blipFill>
          <a:blip r:embed="rId4"/>
          <a:stretch/>
        </p:blipFill>
        <p:spPr>
          <a:xfrm>
            <a:off x="6858000" y="3200400"/>
            <a:ext cx="1892160" cy="2057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7238880" y="541008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: 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orsewhinn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urch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un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leftpoint"/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Our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teacher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handed out 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paper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teacheroldman"/>
          <p:cNvPicPr/>
          <p:nvPr/>
        </p:nvPicPr>
        <p:blipFill>
          <a:blip r:embed="rId5"/>
          <a:stretch/>
        </p:blipFill>
        <p:spPr>
          <a:xfrm>
            <a:off x="3657600" y="4343400"/>
            <a:ext cx="1876320" cy="24192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>
            <a:hlinkClick r:id="rId6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7">
            <a:hlinkClick r:id="rId7" action="ppaction://hlinksldjump"/>
          </p:cNvPr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6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5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leftpoin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bus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went down the wrong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road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buslg"/>
          <p:cNvPicPr/>
          <p:nvPr/>
        </p:nvPicPr>
        <p:blipFill>
          <a:blip r:embed="rId5"/>
          <a:stretch/>
        </p:blipFill>
        <p:spPr>
          <a:xfrm>
            <a:off x="4267080" y="3657600"/>
            <a:ext cx="3838680" cy="2085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8">
            <a:hlinkClick r:id="rId6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>
            <a:hlinkClick r:id="rId7" action="ppaction://hlinksldjump"/>
          </p:cNvPr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leftpoin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That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dog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chased 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boys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5" action="ppaction://hlinksldjump"/>
              </a:rPr>
              <a:t>up a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6" action="ppaction://hlinksldjump"/>
              </a:rPr>
              <a:t>tre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bulldog"/>
          <p:cNvPicPr/>
          <p:nvPr/>
        </p:nvPicPr>
        <p:blipFill>
          <a:blip r:embed="rId7"/>
          <a:stretch/>
        </p:blipFill>
        <p:spPr>
          <a:xfrm>
            <a:off x="3809880" y="2819520"/>
            <a:ext cx="4800600" cy="33415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>
            <a:hlinkClick r:id="rId8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9">
            <a:hlinkClick r:id="rId9" action="ppaction://hlinksldjump"/>
          </p:cNvPr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23:32:19Z</dcterms:created>
  <dc:creator>Jefferson County Schools</dc:creator>
  <dc:description/>
  <dc:language>en-US</dc:language>
  <cp:lastModifiedBy>Laura McDow</cp:lastModifiedBy>
  <dcterms:modified xsi:type="dcterms:W3CDTF">2010-09-17T17:10:51Z</dcterms:modified>
  <cp:revision>11</cp:revision>
  <dc:subject/>
  <dc:title>Name It!</dc:title>
</cp:coreProperties>
</file>